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9D85-A379-4DA9-AEE3-2A944291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9829-CFE1-4E11-A339-5AD6EC0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579E-C122-4B17-AC05-C437550A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024E-4730-4660-880E-5CA00E8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B5FC-AF8D-46EA-9551-596D9360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331-32C2-4793-BD6E-44740565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D4F6-9FA5-4387-9121-0474D809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345F-1F90-4573-A97E-B4D3927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516-4ECA-4620-8A1E-3659FAB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D28-4704-4225-8D7A-A340B11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09C4-3F88-4DBD-BEE0-D2BB8DE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184-6A1D-4CD8-9AE9-834E91E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5098-B8C1-4B00-9048-372D9F12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752-AE7E-4EE3-B62D-4712202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DDA3-1204-4B58-B028-D61A7D6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F80-1D7E-412F-97B3-6591CB6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3006-8766-4D98-BE66-76751ABB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D4D2-4146-4AB4-8549-2FD8DD79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7B2F-DB39-4BCD-BCBF-C3D9C0F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B255-0917-4821-AD81-07BAB02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9C76-DB9E-47DE-B01B-820695E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114F-D8FD-4703-AFD8-043C5F6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AC65-207B-4C5F-8C63-1FADAA8F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0498-3D7E-41F1-A60D-67DB1CF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WH_Logo2z_cmyk_pos"/>
          <p:cNvPicPr/>
          <p:nvPr/>
        </p:nvPicPr>
        <p:blipFill>
          <a:blip r:embed="rId2"/>
          <a:stretch/>
        </p:blipFill>
        <p:spPr>
          <a:xfrm>
            <a:off x="8169120" y="6448320"/>
            <a:ext cx="881280" cy="312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54160">
              <a:spcBef>
                <a:spcPts val="300"/>
              </a:spcBef>
              <a:buClr>
                <a:srgbClr val="0073be"/>
              </a:buClr>
              <a:buSzPct val="120000"/>
              <a:buFont typeface="Arial"/>
              <a:buChar char="•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9120" indent="-228600">
              <a:spcBef>
                <a:spcPts val="300"/>
              </a:spcBef>
              <a:buClr>
                <a:srgbClr val="0073be"/>
              </a:buClr>
              <a:buFont typeface="Arial"/>
              <a:buChar char="–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9160" indent="-228600">
              <a:spcBef>
                <a:spcPts val="300"/>
              </a:spcBef>
              <a:buClr>
                <a:srgbClr val="0073be"/>
              </a:buClr>
              <a:buFont typeface="Wingdings" charset="2"/>
              <a:buChar char="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438200"/>
                <a:tab algn="l" pos="2876400"/>
                <a:tab algn="l" pos="4314960"/>
                <a:tab algn="l" pos="5753160"/>
                <a:tab algn="l" pos="7191360"/>
                <a:tab algn="l" pos="8629560"/>
                <a:tab algn="l" pos="1006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395280" y="333000"/>
            <a:ext cx="0" cy="647640"/>
          </a:xfrm>
          <a:prstGeom prst="line">
            <a:avLst/>
          </a:prstGeom>
          <a:ln w="31680">
            <a:solidFill>
              <a:srgbClr val="e6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995280" y="6453000"/>
            <a:ext cx="12956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ie </a:t>
            </a:r>
            <a:fld id="{493CEBA6-6DE1-4D06-AD38-F34CED13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6433920" y="6453000"/>
            <a:ext cx="1377720" cy="2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360" y="6453000"/>
            <a:ext cx="35272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86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03640" y="6230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3be"/>
                </a:solidFill>
                <a:latin typeface="Arial"/>
              </a:rPr>
              <a:t>www.stadtwerke-hanau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B07-83DC-4045-92B7-485016CF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äsentationen mit Inter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DFaST.de – Das ist ja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ten Sie bitte die Folien im Präsentationsmo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boxen z. B. für Abstimmunge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cken Sie einfach in einen R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14400" y="2243160"/>
          <a:ext cx="6477120" cy="2763720"/>
        </p:xfrm>
        <a:graphic>
          <a:graphicData uri="http://schemas.openxmlformats.org/drawingml/2006/table">
            <a:tbl>
              <a:tblPr/>
              <a:tblGrid>
                <a:gridCol w="3809880"/>
                <a:gridCol w="1371600"/>
                <a:gridCol w="1295640"/>
              </a:tblGrid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scheidu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scheidu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scheidung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E1_Rahmen"/>
          <p:cNvSpPr/>
          <p:nvPr/>
        </p:nvSpPr>
        <p:spPr>
          <a:xfrm>
            <a:off x="5192640" y="3014640"/>
            <a:ext cx="3812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2_Rahmen"/>
          <p:cNvSpPr/>
          <p:nvPr/>
        </p:nvSpPr>
        <p:spPr>
          <a:xfrm>
            <a:off x="6553080" y="3014640"/>
            <a:ext cx="3812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3_Rahmen"/>
          <p:cNvSpPr/>
          <p:nvPr/>
        </p:nvSpPr>
        <p:spPr>
          <a:xfrm>
            <a:off x="5192640" y="3787920"/>
            <a:ext cx="3812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4_Rahmen"/>
          <p:cNvSpPr/>
          <p:nvPr/>
        </p:nvSpPr>
        <p:spPr>
          <a:xfrm>
            <a:off x="6553080" y="3787920"/>
            <a:ext cx="3812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5_Rahmen"/>
          <p:cNvSpPr/>
          <p:nvPr/>
        </p:nvSpPr>
        <p:spPr>
          <a:xfrm>
            <a:off x="5192640" y="4549680"/>
            <a:ext cx="38124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6_Rahmen"/>
          <p:cNvSpPr/>
          <p:nvPr/>
        </p:nvSpPr>
        <p:spPr>
          <a:xfrm>
            <a:off x="6553080" y="4549680"/>
            <a:ext cx="38124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1_Checker" hidden="1"/>
          <p:cNvSpPr/>
          <p:nvPr/>
        </p:nvSpPr>
        <p:spPr>
          <a:xfrm>
            <a:off x="5164920" y="2700360"/>
            <a:ext cx="631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2_Checker" hidden="1"/>
          <p:cNvSpPr/>
          <p:nvPr/>
        </p:nvSpPr>
        <p:spPr>
          <a:xfrm>
            <a:off x="6480360" y="2743200"/>
            <a:ext cx="52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3_Checker" hidden="1"/>
          <p:cNvSpPr/>
          <p:nvPr/>
        </p:nvSpPr>
        <p:spPr>
          <a:xfrm>
            <a:off x="5164920" y="3473280"/>
            <a:ext cx="631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4_Checker" hidden="1"/>
          <p:cNvSpPr/>
          <p:nvPr/>
        </p:nvSpPr>
        <p:spPr>
          <a:xfrm>
            <a:off x="6480360" y="3516480"/>
            <a:ext cx="52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5_Checker" hidden="1"/>
          <p:cNvSpPr/>
          <p:nvPr/>
        </p:nvSpPr>
        <p:spPr>
          <a:xfrm>
            <a:off x="5164920" y="4235400"/>
            <a:ext cx="631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6_Checker" hidden="1"/>
          <p:cNvSpPr/>
          <p:nvPr/>
        </p:nvSpPr>
        <p:spPr>
          <a:xfrm>
            <a:off x="6480360" y="4278240"/>
            <a:ext cx="52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840" y="5257800"/>
            <a:ext cx="752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tbar machen aller Checker-Shapes / Ändern von Shapes: Makro Set_Checker ausf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blenden aller Checker-Shapes: Makro Reset_Checker ausf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7640" y="5878440"/>
            <a:ext cx="394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enung der Checker-Shap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ecker-Rahmen: &lt;CheckerID&gt;_&lt;irgend_wa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ecker-Shape: &lt;CheckerID&gt;_Che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satzinformationen zu Obj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1295280"/>
            <a:ext cx="3200400" cy="381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usatzinfos_Text"/>
          <p:cNvSpPr/>
          <p:nvPr/>
        </p:nvSpPr>
        <p:spPr>
          <a:xfrm>
            <a:off x="5867280" y="1752480"/>
            <a:ext cx="2952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5"/>
          <p:cNvSpPr/>
          <p:nvPr/>
        </p:nvSpPr>
        <p:spPr>
          <a:xfrm>
            <a:off x="457200" y="510552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4"/>
          <p:cNvSpPr/>
          <p:nvPr/>
        </p:nvSpPr>
        <p:spPr>
          <a:xfrm>
            <a:off x="2590920" y="480060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6"/>
          <p:cNvSpPr/>
          <p:nvPr/>
        </p:nvSpPr>
        <p:spPr>
          <a:xfrm>
            <a:off x="4876920" y="502920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2"/>
          <p:cNvSpPr/>
          <p:nvPr/>
        </p:nvSpPr>
        <p:spPr>
          <a:xfrm>
            <a:off x="990720" y="320040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1"/>
          <p:cNvSpPr/>
          <p:nvPr/>
        </p:nvSpPr>
        <p:spPr>
          <a:xfrm>
            <a:off x="2133720" y="213372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3"/>
          <p:cNvSpPr/>
          <p:nvPr/>
        </p:nvSpPr>
        <p:spPr>
          <a:xfrm>
            <a:off x="3429000" y="3505320"/>
            <a:ext cx="468360" cy="468360"/>
          </a:xfrm>
          <a:prstGeom prst="ellipse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638680" y="3913200"/>
          <a:ext cx="3200400" cy="1868400"/>
        </p:xfrm>
        <a:graphic>
          <a:graphicData uri="http://schemas.openxmlformats.org/drawingml/2006/table">
            <a:tbl>
              <a:tblPr/>
              <a:tblGrid>
                <a:gridCol w="381240"/>
                <a:gridCol w="2819160"/>
              </a:tblGrid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ist das DDFaST-Lo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wurde in aufwendig gerender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aussieht wie ein Säbel, sollen die absteigende oder ansteigende e-Funktionen darste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ind gegenüber stehende D‘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kreuzen sich die Kur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ist die Ecke links un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be Schwar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ist die rechte untere Ecke, genial od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38920" y="167652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gen Sie die Maus über einen Pu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8960" y="5867280"/>
            <a:ext cx="679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usatzinformation sind in einer versteckten Tabelle enthal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m Einblenden das Makro Set_Checker aufru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m Verstecken das Makro Reset_Checker aufru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40120" y="6248520"/>
            <a:ext cx="333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8000"/>
                </a:solidFill>
                <a:latin typeface="Arial"/>
              </a:rPr>
              <a:t>Versteckte Tabelle muss nach jeder Änderung (leider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8000"/>
                </a:solidFill>
                <a:latin typeface="Arial"/>
              </a:rPr>
              <a:t>„</a:t>
            </a:r>
            <a:r>
              <a:rPr b="0" lang="de-DE" sz="1000" spc="-1" strike="noStrike">
                <a:solidFill>
                  <a:srgbClr val="008000"/>
                </a:solidFill>
                <a:latin typeface="Arial"/>
              </a:rPr>
              <a:t>versteckte_Informationstabelle“ umbenannt we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-Ing. Dirk Drescher</dc:creator>
  <dc:description/>
  <dc:language>en-US</dc:language>
  <cp:lastModifiedBy>Dr.-Ing. Dirk Drescher</cp:lastModifiedBy>
  <dcterms:modified xsi:type="dcterms:W3CDTF">2011-04-07T18:19:17Z</dcterms:modified>
  <cp:revision>45</cp:revision>
  <dc:subject/>
  <dc:title>Folien mit Makro-Interaktivitä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